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8765-2895-41E2-9219-5667C73011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įstatymo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JAV notarizavimas – sec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02 (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9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3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p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ektroninio parašo direktyvo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Reikalavimai taikomi saugiam arba patobulintam el. parašui –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str.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Uncitral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 st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p. įstatymo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2 str. 5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El. Parašo direktyvos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str. 3 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. Para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šo įstatymo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str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7 </a:t>
            </a:r>
            <a:r>
              <a:rPr b="0" lang="lt-LT" sz="1200" spc="-1" strike="noStrike">
                <a:solidFill>
                  <a:srgbClr val="000000"/>
                </a:solidFill>
                <a:latin typeface="Tahoma"/>
              </a:rPr>
              <a:t>d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EF5-0DF0-4BBD-A71B-2ADA906F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37D-898C-4334-AA82-4D2A49B1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1A41-E06D-4D16-A95D-859C15F7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2F4-F8BD-4C1F-B648-54030221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84F4-603B-4E42-A6AC-FEE64B51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0EE1-D1EA-40F3-91A7-164691B0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DD6D-6078-4B2F-9368-902B0A6D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6F3C-56C5-48A8-AA4D-07930EB5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BE71-5214-4526-8BC9-6BE14AC9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483D-46A3-4CFE-9CC4-4BFF157D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7E97-C67B-4A44-A6F8-55D3BF58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C75-FC70-498D-AA1F-58A87200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8CB3-E0D4-48C0-B2C8-AD6462B7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A7C5-FE7E-42BD-878F-E7A7009C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7E06-5B45-4B31-9737-3BB74781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CB72-24AD-45E7-89D5-4D8D8A4B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EF03-FC8F-4E2F-83EB-5CC97C5E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BE9-B604-454A-8006-877215ED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2D3-5650-4FCD-8EAC-27D48C45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6C6-7F24-4FD0-BD7C-3D8BC20D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B8B-0FFA-4DFD-9665-77B47B7B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CE5-B8BE-407E-A859-57F4A10E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F94-4917-4702-8560-D0BDFD44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7D2-24D8-4601-A2E6-CE3A02E0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2003-03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3366"/>
                </a:solidFill>
                <a:latin typeface="Arial"/>
              </a:rPr>
              <a:t>© Tomas Lamanauskas, 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D87F-9E5C-429D-993D-3A725F199DC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94C0-B911-4051-B8E0-07C3843F25A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Elektroninės komercijos teisinis reguliavima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6666"/>
                </a:solidFill>
                <a:latin typeface="Arial"/>
              </a:rPr>
              <a:t>Elektroninis paraša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cc3300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ugus e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ektroninis parašas, sukurtas saugia parašo formavimo įranga ir patvirtintas galiojančiu kvalifikuotu sertifikatu, elektroniniams duomenims turi tokią pačią teisinę galią kaip ir parašas rašytiniuose (ES – popieriniuose) dokumentuose ir yra priimtinas kaip įrodymas teismo proce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o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rašas nepraranda teisinės galios dėl to, ka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yra elektronin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pagrįstas kvalifikuotu sertifikat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paremtas kvalifikuotu sertifikatu, išduotu akredituoto sertifikavimo paslaugų teikėj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sukurtas saugia parašo formavimo įrang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g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tarčių laisvės princip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R Elektroninio parašo įstatymo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8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traipsnio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4 dalis,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o parašo direktyvos preambulės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6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unktas, UNCITRAL pavyzdinio įstatymo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 straipsn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Netaikoma, kai egzistuoja notarizavimo ar registravimo reikalavim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s notarizavimas: JAV, Kanados Kvebeko provincija, Prancūz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kaitmeninio parašo naudojimo procedū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webguard02_dsv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sertifik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ertifikatas –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ktroninis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iudijimas, kuris susieja pasirašantįjį su parašo tikrinimo duomenimis (ES ir LT - ir patvirtina to asmens tapatyb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ertifikavimo paslaugų teikėjas – išduoda sertifikatą, suteikia teisę bet ka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&lt;?&gt;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usipažinti su jo duomenimis ir teikia susijusias paslaug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Sertifikavimo paslaugų teikėj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pra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šduoda specialių reikalavimų neatitinkančius sertifikat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šduodantys kvalifikuotus sertifika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šduoda aiškią teisinę galią turinčius sertifikat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kredituo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vanoriškai gavę valstybės patvirtinimą, kad atitinka keliamus reikalavim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valifikuotų sertifikatų  išd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Lietuv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ūtinas registravi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Bulgar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Registruotų paslaugų teikėjų išduoti sertifikatai naudojami tik susirašinėjimui su valstybės ir savivaldybių institucijom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uropos Sąjung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Tik savanoriškas akreditavimas – kiekvienas leidimas, susijęs su sertifikavimo paslaugų teikimu, suteiktas sertifikavimo paslaugų teikėjo prašy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šankstinių leidimų sistema draudžia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Preambulė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, 12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 punktai, Direktyvo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 </a:t>
            </a: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t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Užsienio sertifikatų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S ir Lietuv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ei paslaugų teikėjas atitinka bendrus     reikalavimus ir savanoriškai akreditavosi ES arba Lietuvoje (netaikomas registravimosi reikalavim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ei sertifikatas garantuotas ES (Lietuvoje) veikiančio sertifikavimo paslaugų teikėjo, atitinkančio reikalavimus, nustatytus kvalifikuotiems tiekėj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pažįstama pagal tarptautinę sutart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Užsienio sertifikatų pripaž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NCITRA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Nediskriminavimas geografiniu pagrin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uri būti pripažintas, jei garantuoja pakankamai lygiavertį patikimumo lyg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Šalių susitarimo pripažin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lausima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m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sampr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reguliavimo būda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as gali pasirašy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gal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kaitmeninio parašo naudojimo procedū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Elektroninio parašo sertifikav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Užsienio sertifikatų pripaž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sampr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Elektroninis parašas suprantamas kaip duomenys, kurie susiejami su kitais (pasirašomais) elektroniniais duomenimis ir atlieka pasirašiusio asmens identifikavimo funkciją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UNCITRAL –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ir liudija, kad asmuo patvirtino pasirašytą informaciją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Vardo ir ar pavardės nurod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PIN (Židrūnas Šapalas v. AB “Lietuvos taupomasis bank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Kriptografinės priemonės (skaitmeninis paraš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iometrinės priemonė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927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Elektroninio parašo reguliavimo būda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inima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echnologiškai neutral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iškios technologijos įtvirt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Minimalus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bstraktus elektroninio parašo galimybės įtvirtini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avyzdžiai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AV Kalifornijos valst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JAV federalinis reguliav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927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Technologiškai neutralus (dualistinis) reguliav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ustatymas nesusietų su konkrečia technologija reikalavimų, kurie užtikrina, kad elektroninis parašas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 ir LT - 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augus ar patobulintas (advanced)) patikimai funkciškai atitiktų paprastą paraš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Bulgar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NCITRAL pavyzdinis įstat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 direkty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LR Elektroninio parašo įstaty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Reikalavimai saugiam el. parašu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nikal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Vienareikšmiškai susietas su pasirašančiu asmeni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dentifikavima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nėra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CITRA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Leidžia identifikuoti pasirašantį asmen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aug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ukurtas priemonėmis, kurias gali tvarkyti tik pasirašantis asmuo savo val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Integralum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3366"/>
                </a:solidFill>
                <a:latin typeface="Arial"/>
              </a:rPr>
              <a:t>Susijęs su pasirašytais duomenimis taip, kad bet koks šių duomenų pakeitimas yra pastebi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CITRAL – 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galimybė pastebėti bet kokį parašo pakitim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iškios technologijos įtvirtinim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ripažįstamas tik </a:t>
            </a:r>
            <a:r>
              <a:rPr b="1" lang="lt-LT" sz="2400" spc="-1" strike="noStrike">
                <a:solidFill>
                  <a:srgbClr val="003366"/>
                </a:solidFill>
                <a:latin typeface="Arial"/>
              </a:rPr>
              <a:t>skaitmeninis</a:t>
            </a: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 paraš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lektroninis parašas, kuris kuriamas naudojant viešojo rakto technologiją (PKI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irmasis reguliavimo bū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Pavyzdžia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JAV Jutos valst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rgentin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Malaizij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Anksčiau - Vokietijo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Kas gali pasirašy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Tik fizinis asmu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LR Elektroninio parašo įstatymas, Bulgarijos Elektroninio dokumento ir elektroninio parašo įstatymas (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0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Ir fiziniai, ir juridiniai asmen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ES, UNCITRAL, Slovėn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3366"/>
                </a:solidFill>
                <a:latin typeface="Arial"/>
              </a:rPr>
              <a:t>Specialus reguliavi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tstovaujamojo (pvz., j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uridinio asmen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 teisė kontroliuoti sertifikatus, kuriuose yra informacijos apie jį (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etuva, 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Slovėnij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Juridinio asmens atstovo para</a:t>
            </a:r>
            <a:r>
              <a:rPr b="0" lang="lt-LT" sz="2000" spc="-1" strike="noStrike">
                <a:solidFill>
                  <a:srgbClr val="003366"/>
                </a:solidFill>
                <a:latin typeface="Arial"/>
              </a:rPr>
              <a:t>šo prilyginimas parašui ir antspaudu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6:19:43Z</dcterms:created>
  <dc:creator>tomlmn</dc:creator>
  <dc:description/>
  <dc:language>en-US</dc:language>
  <cp:lastModifiedBy>tlamanauskas</cp:lastModifiedBy>
  <dcterms:modified xsi:type="dcterms:W3CDTF">2004-11-22T09:36:52Z</dcterms:modified>
  <cp:revision>27</cp:revision>
  <dc:subject/>
  <dc:title>Savireguliacija Interne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25289306</vt:r8>
  </property>
  <property fmtid="{D5CDD505-2E9C-101B-9397-08002B2CF9AE}" pid="3" name="_AuthorEmail">
    <vt:lpwstr>tlamanauskas@rrt.lt</vt:lpwstr>
  </property>
  <property fmtid="{D5CDD505-2E9C-101B-9397-08002B2CF9AE}" pid="4" name="_AuthorEmailDisplayName">
    <vt:lpwstr>Tomas Lamanauskas</vt:lpwstr>
  </property>
  <property fmtid="{D5CDD505-2E9C-101B-9397-08002B2CF9AE}" pid="5" name="_EmailSubject">
    <vt:lpwstr>Del Informatikos Teisiu konspektu</vt:lpwstr>
  </property>
</Properties>
</file>